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486E-5AAB-412E-A69E-F32AD75E6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4759-B2CA-4539-8BE4-45A02E83C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E3A1-FD31-4636-A396-201EE41C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FDFD-0B3E-48D1-B548-5AFF2EFC4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6CEF-8B16-44CD-90F1-5C0728498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39B0-3680-4B65-B7BF-30D579F96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19A8-3D41-44BF-B31F-B1ED29E64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E674-51F1-45C8-8AAF-3E33E74AD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5A93-D152-4927-AE6F-4EC4501D1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392E-AA47-4CEF-9064-A23B5AE63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795D-3D13-466A-A309-2F2A44C84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89B7-3B66-42CB-AFBF-5C027F549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4972-1CD3-4ABE-9BD2-33E207B2C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</a:t>
            </a:r>
            <a:r>
              <a:rPr b="0" lang="ja-JP" sz="28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 wear your shorts and bathing suit when it</a:t>
            </a:r>
            <a:r>
              <a:rPr b="0" lang="ja-JP" sz="28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custGeom>
            <a:avLst/>
            <a:gdLst/>
            <a:ahLst/>
            <a:rect l="l" t="t" r="r" b="b"/>
            <a:pathLst>
              <a:path w="5181600" h="3276600">
                <a:moveTo>
                  <a:pt x="5" y="1251547"/>
                </a:moveTo>
                <a:lnTo>
                  <a:pt x="1979206" y="1251555"/>
                </a:lnTo>
                <a:lnTo>
                  <a:pt x="2590800" y="0"/>
                </a:lnTo>
                <a:lnTo>
                  <a:pt x="3202394" y="1251555"/>
                </a:lnTo>
                <a:lnTo>
                  <a:pt x="5181595" y="1251547"/>
                </a:lnTo>
                <a:lnTo>
                  <a:pt x="3580380" y="2025042"/>
                </a:lnTo>
                <a:lnTo>
                  <a:pt x="4191999" y="3276592"/>
                </a:lnTo>
                <a:lnTo>
                  <a:pt x="2590800" y="2503082"/>
                </a:lnTo>
                <a:lnTo>
                  <a:pt x="989601" y="3276592"/>
                </a:lnTo>
                <a:lnTo>
                  <a:pt x="1601220" y="2025042"/>
                </a:lnTo>
                <a:lnTo>
                  <a:pt x="5" y="1251547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custGeom>
            <a:avLst/>
            <a:gdLst/>
            <a:ahLst/>
            <a:rect l="l" t="t" r="r" b="b"/>
            <a:pathLst>
              <a:path w="6553200" h="4191000">
                <a:moveTo>
                  <a:pt x="7" y="1600815"/>
                </a:moveTo>
                <a:lnTo>
                  <a:pt x="2503113" y="1600827"/>
                </a:lnTo>
                <a:lnTo>
                  <a:pt x="3276600" y="0"/>
                </a:lnTo>
                <a:lnTo>
                  <a:pt x="4050087" y="1600827"/>
                </a:lnTo>
                <a:lnTo>
                  <a:pt x="6553193" y="1600815"/>
                </a:lnTo>
                <a:lnTo>
                  <a:pt x="4528127" y="2590170"/>
                </a:lnTo>
                <a:lnTo>
                  <a:pt x="5301646" y="4190989"/>
                </a:lnTo>
                <a:lnTo>
                  <a:pt x="3276600" y="3201617"/>
                </a:lnTo>
                <a:lnTo>
                  <a:pt x="1251554" y="4190989"/>
                </a:lnTo>
                <a:lnTo>
                  <a:pt x="2025073" y="2590170"/>
                </a:lnTo>
                <a:lnTo>
                  <a:pt x="7" y="1600815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custGeom>
            <a:avLst/>
            <a:gdLst/>
            <a:ahLst/>
            <a:rect l="l" t="t" r="r" b="b"/>
            <a:pathLst>
              <a:path w="6553200" h="4191000">
                <a:moveTo>
                  <a:pt x="7" y="1600815"/>
                </a:moveTo>
                <a:lnTo>
                  <a:pt x="2503113" y="1600827"/>
                </a:lnTo>
                <a:lnTo>
                  <a:pt x="3276600" y="0"/>
                </a:lnTo>
                <a:lnTo>
                  <a:pt x="4050087" y="1600827"/>
                </a:lnTo>
                <a:lnTo>
                  <a:pt x="6553193" y="1600815"/>
                </a:lnTo>
                <a:lnTo>
                  <a:pt x="4528127" y="2590170"/>
                </a:lnTo>
                <a:lnTo>
                  <a:pt x="5301646" y="4190989"/>
                </a:lnTo>
                <a:lnTo>
                  <a:pt x="3276600" y="3201617"/>
                </a:lnTo>
                <a:lnTo>
                  <a:pt x="1251554" y="4190989"/>
                </a:lnTo>
                <a:lnTo>
                  <a:pt x="2025073" y="2590170"/>
                </a:lnTo>
                <a:lnTo>
                  <a:pt x="7" y="1600815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custGeom>
            <a:avLst/>
            <a:gdLst/>
            <a:ahLst/>
            <a:rect l="l" t="t" r="r" b="b"/>
            <a:pathLst>
              <a:path w="7315200" h="4724400">
                <a:moveTo>
                  <a:pt x="8" y="1804556"/>
                </a:moveTo>
                <a:lnTo>
                  <a:pt x="2794173" y="1804568"/>
                </a:lnTo>
                <a:lnTo>
                  <a:pt x="3657600" y="0"/>
                </a:lnTo>
                <a:lnTo>
                  <a:pt x="4521027" y="1804568"/>
                </a:lnTo>
                <a:lnTo>
                  <a:pt x="7315192" y="1804556"/>
                </a:lnTo>
                <a:lnTo>
                  <a:pt x="5054654" y="2919828"/>
                </a:lnTo>
                <a:lnTo>
                  <a:pt x="5918116" y="4724388"/>
                </a:lnTo>
                <a:lnTo>
                  <a:pt x="3657600" y="3609096"/>
                </a:lnTo>
                <a:lnTo>
                  <a:pt x="1397084" y="4724388"/>
                </a:lnTo>
                <a:lnTo>
                  <a:pt x="2260546" y="2919828"/>
                </a:lnTo>
                <a:lnTo>
                  <a:pt x="8" y="1804556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a walking stick.  I look just like a stick you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Manor ISD</cp:lastModifiedBy>
  <dcterms:modified xsi:type="dcterms:W3CDTF">2012-10-29T14:36:59Z</dcterms:modified>
  <cp:revision>33</cp:revision>
  <dc:subject/>
  <dc:title>PowerPoint Presentation</dc:title>
</cp:coreProperties>
</file>